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00930"/>
        <c:axId val="55428466"/>
      </c:barChart>
      <c:catAx>
        <c:axId val="80500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28466"/>
        <c:crosses val="autoZero"/>
        <c:auto val="1"/>
        <c:lblAlgn val="ctr"/>
        <c:lblOffset val="100"/>
        <c:noMultiLvlLbl val="0"/>
      </c:catAx>
      <c:valAx>
        <c:axId val="55428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00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0E5-8F0B-4514-BBA5-683D8DBD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B2B4-29B6-4C55-9ED9-9EA91BA0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1B1-C635-4DC9-95E8-F75002A9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9A8-4F8C-4155-9BA0-89BE4672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F12-5817-4286-8B7A-3475AF91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006B-A2C5-4B2A-B62B-0E9DF3C3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20E-60D1-4FDC-99F2-422CED40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E6D-FEEE-4A88-BD7D-36A7D14E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4AF-91A9-462A-AB4C-7DBBA203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391-0890-4E6F-A7A6-EA34BF8E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BD8-1A39-4BC4-BD72-4047E7C9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634-2391-4A53-9032-5881B66B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05862-962F-452E-8582-8A58906FC5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