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95275"/>
        <c:axId val="68084978"/>
      </c:barChart>
      <c:catAx>
        <c:axId val="10795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4978"/>
        <c:crosses val="autoZero"/>
        <c:auto val="1"/>
        <c:lblAlgn val="ctr"/>
        <c:lblOffset val="100"/>
        <c:noMultiLvlLbl val="0"/>
      </c:catAx>
      <c:valAx>
        <c:axId val="68084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5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D9E-13D4-49FD-89D9-1E9C1D41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C7A-1E2B-4183-9A80-6DF9BFAF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E08-0D57-4997-9567-0919C029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BBC-A7D4-4653-8B33-0F7D13AA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4B3-AEE2-4621-92B3-DA73CED5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189-3545-4437-98BA-D4471E1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519-6B61-461E-96E6-C3BB486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94E-48AF-4E8E-B48C-596965C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3B7-9B49-4617-A9C2-87993B28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B43-8C05-4BD8-A5C0-56B35C01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39F-6325-4642-B64C-0600EDF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0F3-7E8E-494B-A737-2569176B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4021B-8E20-4F64-9B6C-3FE1D80FB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