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349093"/>
        <c:axId val="84919815"/>
      </c:barChart>
      <c:catAx>
        <c:axId val="643490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919815"/>
        <c:crosses val="autoZero"/>
        <c:auto val="1"/>
        <c:lblAlgn val="ctr"/>
        <c:lblOffset val="100"/>
        <c:noMultiLvlLbl val="0"/>
      </c:catAx>
      <c:valAx>
        <c:axId val="849198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3490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E166-FAF4-452F-9D21-D5BB75CC3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DD27-2464-4DD8-BBD8-9D05C858A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04B1-496E-4789-9F3B-EB61D7C9E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6C2C-D99B-47C1-8D27-5AE10F1E9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C506-DE7D-40AC-A1E8-5DE9ABDBA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9918-B14B-4EEC-9377-D3947551E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92EE-A635-43D0-826E-1B931A5A9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84D3-E7AC-4A53-B4F7-2EEDC7FCB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4C1E-BB40-4A37-B68C-DE2397C24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AA9C-CC5F-44E1-A7F0-BAD620AE3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C60A-6390-4A14-8555-682ADDD73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65BE-F013-4C81-A8B1-715A62B1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11F468-1304-48CC-9DF6-A96F61F9172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