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25310"/>
        <c:axId val="74326491"/>
      </c:barChart>
      <c:catAx>
        <c:axId val="87525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26491"/>
        <c:crosses val="autoZero"/>
        <c:auto val="1"/>
        <c:lblAlgn val="ctr"/>
        <c:lblOffset val="100"/>
        <c:noMultiLvlLbl val="0"/>
      </c:catAx>
      <c:valAx>
        <c:axId val="74326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25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6AF-C58C-4597-AD6C-6E21EEC4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B21-69B9-42F4-88D4-8CA02AE5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261-9D20-4E9A-8AA2-9A7F31D6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170-6923-4C9F-9129-17C4F138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562-4B4E-4378-B061-520307A6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D04-B039-4577-9719-22936F47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0F1-90ED-4E3D-BBAC-D7782488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9B4-E473-49C6-843B-551B4130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800-C61F-460F-947F-FC5D02E4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13D-CA8E-45CF-B793-EE13A4A1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F1A-ED1F-46BB-BE47-D452581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721-B2DB-4C8D-AC8E-AD7A4F22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A9F7D-6BB5-40C9-B0DF-FA5B4B0545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